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E8CB-B99C-4F1E-87C4-1A78173A6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EA8D-A61C-486A-A261-461B3288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B2CD-2DE8-4694-A0D1-FBA08A8CF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5EAE-C717-4699-A2DE-F87C1FCB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793D-72A1-4C56-9CAD-C998DDBA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D052-0D70-48D5-B07F-7606E621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77F7-9287-486B-A562-F6847EBA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73B0-FE6D-446B-94A2-F1DC882F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91E0-FB49-48B6-8BDC-D803AF34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EA0A-99E8-4D31-86EF-7DA66151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F79E-28AC-4070-8A2F-09B10142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A755-10D7-475F-996E-71836448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C959-4CB7-42EC-A0A3-17098E946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ensguide.gpo.gov/3-5/state/delaware.html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76320"/>
            <a:ext cx="853416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Impact"/>
              </a:rPr>
              <a:t>Delaware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100000">
                    <a:srgbClr val="000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4572000"/>
            <a:ext cx="342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Meg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3-1-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Period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Computer # 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58672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State Name- Dela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Capital- D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Population- 783,6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Entered the union- December 7, 1787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Broadway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Motto- Liberty of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Nickname- Fist State/ Small Wo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Flower-Peach Blos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Bird- Blue Hen Chic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Song- Our Delaw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Meaning behind name- For Thomas West Lord de la War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Interesting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There governor of the state is Jack Mark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Also the states mineral is Silliman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Largest Cities are Willmington,Newark, Bethany and Mil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State Tree is American Ho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Delaware area code is 3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257800" y="1447920"/>
            <a:ext cx="33526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’s Guide to U.S Governmen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Quick Facts: Delawar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2/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bensguide.gpo.gov/3-5/state/delawar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Delaware: Map and State Flag"/>
          <p:cNvPicPr/>
          <p:nvPr/>
        </p:nvPicPr>
        <p:blipFill>
          <a:blip r:embed="rId2"/>
          <a:srcRect l="0" t="36012" r="0" b="0"/>
          <a:stretch/>
        </p:blipFill>
        <p:spPr>
          <a:xfrm>
            <a:off x="5486400" y="3581280"/>
            <a:ext cx="2208240" cy="2438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4419720"/>
            <a:ext cx="38862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law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3/2/20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nchantedlearning.com/usa/states/delawar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80880" y="1447920"/>
            <a:ext cx="3657600" cy="2639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66680" y="15228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Picture of the state flag and a picture of the 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61722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38080" y="685800"/>
            <a:ext cx="594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All images Copyright © 1997 - 2000 WriteLine. All Rights Reserved."/>
          <p:cNvPicPr/>
          <p:nvPr/>
        </p:nvPicPr>
        <p:blipFill>
          <a:blip r:embed="rId1"/>
          <a:stretch/>
        </p:blipFill>
        <p:spPr>
          <a:xfrm>
            <a:off x="838080" y="0"/>
            <a:ext cx="7543800" cy="5029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90720" y="50292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his is a 200 year old state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5791320"/>
            <a:ext cx="7467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 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ate Capit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Dover DE,3/3/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ostcardsfrom.com/t1/000114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© 2000 WriteLine. Peach blossom"/>
          <p:cNvPicPr/>
          <p:nvPr/>
        </p:nvPicPr>
        <p:blipFill>
          <a:blip r:embed="rId1"/>
          <a:stretch/>
        </p:blipFill>
        <p:spPr>
          <a:xfrm>
            <a:off x="228600" y="228600"/>
            <a:ext cx="3338640" cy="4267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© 2000 WriteLine. American Holly"/>
          <p:cNvPicPr/>
          <p:nvPr/>
        </p:nvPicPr>
        <p:blipFill>
          <a:blip r:embed="rId2"/>
          <a:stretch/>
        </p:blipFill>
        <p:spPr>
          <a:xfrm>
            <a:off x="6934320" y="304920"/>
            <a:ext cx="18478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© 2000 WriteLine. Blue Hen Chicken"/>
          <p:cNvPicPr/>
          <p:nvPr/>
        </p:nvPicPr>
        <p:blipFill>
          <a:blip r:embed="rId3"/>
          <a:stretch/>
        </p:blipFill>
        <p:spPr>
          <a:xfrm>
            <a:off x="4419720" y="3429000"/>
            <a:ext cx="2133360" cy="2190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429000" y="1602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Delaware’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State fl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86600" y="25909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82680" y="3505320"/>
            <a:ext cx="227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State Bi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5334120"/>
            <a:ext cx="39625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laware State stam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3/3/20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tp://www.postcardsfrom.com/stamp/stamp-de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6:32:17Z</dcterms:created>
  <dc:creator>install</dc:creator>
  <dc:description/>
  <dc:language>en-US</dc:language>
  <cp:lastModifiedBy>install</cp:lastModifiedBy>
  <dcterms:modified xsi:type="dcterms:W3CDTF">2011-03-16T15:55:33Z</dcterms:modified>
  <cp:revision>8</cp:revision>
  <dc:subject/>
  <dc:title>Slide 1</dc:title>
</cp:coreProperties>
</file>